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120-835F-431F-8AC1-78D20407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BBC-C280-44ED-A7F8-C391AE46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5C5-AB76-44DD-95C5-97F1A47E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760-D982-49C9-8AD6-1A379F3B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0AF7-9EF6-46B8-A81F-EA2ADADE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DAFD-0150-4E85-A1E7-F9905AA3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C7E8-7C42-4469-A362-3B50B16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70B5-5F28-4A96-8E02-DDE18E9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FC11-E841-4843-ABA2-205FB3E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6EB-211F-4837-ACDA-C373833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EE46-8C5F-4223-AF76-5F98F5B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10C-4C2E-42F2-B229-CDD4A3DF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613-C8D6-4D03-9D73-CED271D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E2E-E708-4947-97EB-C18DCE8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DC8F-925D-4401-A223-AC01BAAA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063F-75CF-407B-9391-2A53C6D1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A28C-2D68-419A-9759-6C4866F1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413-B1D1-476F-AACA-58F1537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A6D-90F7-4C1B-8703-A0138F4A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750-ED84-47C1-9E12-1EA52EFB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52E-1D68-488F-8540-17B2CCE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23B-E73E-4006-B9AB-5A1FC2AA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249-87D4-4B9E-9AB1-75C383EB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6E7-ADD8-4BD7-BFC6-EB028E99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B7C8-C762-4A58-8F1F-9608A456C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CEE-ED09-4C4C-80D3-FCF4F11A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Exploring the World </a:t>
            </a:r>
            <a:br>
              <a:rPr sz="4800"/>
            </a:b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of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tutorial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utorials are computer-based instructions that teach skills or procedure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utorial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58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by: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es to train their 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s and colleges to teach or review subject ma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191120" y="2131920"/>
            <a:ext cx="46479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simulation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mulations are computer-based models of real-life situations.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imul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886200" y="2057400"/>
            <a:ext cx="5105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Gam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62520" y="2090880"/>
            <a:ext cx="4952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Pag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n be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809880" y="2104920"/>
            <a:ext cx="5177880" cy="3990240"/>
            <a:chOff x="3809880" y="2104920"/>
            <a:chExt cx="5177880" cy="399024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3809880" y="2104920"/>
              <a:ext cx="5177880" cy="39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4614480" y="2345760"/>
              <a:ext cx="2088360" cy="169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he Development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ic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ing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inting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hotography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gital photograp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udio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usi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cording sound and music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roadca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ovies and Televis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m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ideo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gital 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Technolog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puters have become smaller, cheaper, and more powerfu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ktop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ptop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digital assistants (PDA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876920" y="2133720"/>
            <a:ext cx="39621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The Value of Multimedia in Society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has become a valuable resource for education, business, and leisure and recre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s of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du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learn in new and stimulating 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sines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hare resources, deliver information, train employees, and advertise goods an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eisure and Recre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lay video games, surf the Internet, and plan leisur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multimedia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is the integration of text, still and moving images, and sound by means of computer technology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ord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ords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3733920" y="2087640"/>
            <a:ext cx="5181480" cy="45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Images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047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mages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 or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114800" y="2057400"/>
            <a:ext cx="4800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ound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ound, also called audio,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ce-over or nar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191120" y="2114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ideo can be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9880" y="2030400"/>
            <a:ext cx="464832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Produc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at are the types of multimedia productions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presentation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sentations are sequences of slides, also called pages or screens, that usually incorporate text, sound, graphics, and animation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esent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sed by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es to present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s or students in classro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00:25:53Z</dcterms:created>
  <dc:creator>LJ</dc:creator>
  <dc:description/>
  <dc:language>en-US</dc:language>
  <cp:lastModifiedBy>GLENCOE</cp:lastModifiedBy>
  <dcterms:modified xsi:type="dcterms:W3CDTF">2003-01-03T23:34:16Z</dcterms:modified>
  <cp:revision>29</cp:revision>
  <dc:subject/>
  <dc:title>Chapter 1 Exploring the World of Multimedia</dc:title>
</cp:coreProperties>
</file>